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2FA1C-06B1-46BB-8191-9A99B5F17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A0ACB-3B3A-4BCF-B7DA-B245E13BD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swer:  +34.72 degrees and -86.62 degrees.  When inputting to a GIS, the + is assum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FA14-A894-43B4-A4D6-DCCE31B35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23D2-FBBA-44B5-B35E-59FD2A6E1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E311-84BA-45A0-BB59-D8B004688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96D3-3D38-4380-AC4F-83B368E10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86C1-F9D6-4CBB-A2F0-67DCAC9F4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554A-D3DB-458F-9FDF-E9708996F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6D6E-438F-417E-A2D0-C2B0CECA3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9C34-3190-48D6-8380-A58A3B472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EC45-5235-40B1-B556-4AE00F06C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13F4-1D6E-43DA-9E12-F9A42176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5AA9-F4A3-4F2F-8C11-9F04D475C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3C24-54E1-4C0C-8C75-436AE2C33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9A4A5-C2E4-416C-930D-853DE49467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longitude_lat"/>
          <p:cNvPicPr/>
          <p:nvPr/>
        </p:nvPicPr>
        <p:blipFill>
          <a:blip r:embed="rId1"/>
          <a:stretch/>
        </p:blipFill>
        <p:spPr>
          <a:xfrm>
            <a:off x="685800" y="14400"/>
            <a:ext cx="7620120" cy="68436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1920" y="685440"/>
            <a:ext cx="3048120" cy="146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titu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6095880" y="609480"/>
            <a:ext cx="304812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ongitu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5"/>
          <p:cNvSpPr/>
          <p:nvPr/>
        </p:nvSpPr>
        <p:spPr>
          <a:xfrm>
            <a:off x="838080" y="685800"/>
            <a:ext cx="73152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GLOBE website has buttons to click for North and South, when creating your Study Site defin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1"/>
          <a:srcRect l="0" t="7187" r="3431" b="0"/>
          <a:stretch/>
        </p:blipFill>
        <p:spPr>
          <a:xfrm>
            <a:off x="533520" y="1676520"/>
            <a:ext cx="7772400" cy="2952720"/>
          </a:xfrm>
          <a:prstGeom prst="rect">
            <a:avLst/>
          </a:prstGeom>
          <a:ln w="0">
            <a:noFill/>
          </a:ln>
        </p:spPr>
      </p:pic>
      <p:sp>
        <p:nvSpPr>
          <p:cNvPr id="99" name="Text Box 7"/>
          <p:cNvSpPr/>
          <p:nvPr/>
        </p:nvSpPr>
        <p:spPr>
          <a:xfrm>
            <a:off x="457200" y="4876920"/>
            <a:ext cx="81532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 you don’t have to worry about “+” or “-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1066680" y="457200"/>
            <a:ext cx="7162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ractions of a degr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762120" y="1600200"/>
            <a:ext cx="7696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gree/minute/second = XX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xx’ xx’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990720" y="2209680"/>
            <a:ext cx="69339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inut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 1/6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f a degree – a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s 1/6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f a minu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10"/>
          <p:cNvSpPr txBox="1"/>
          <p:nvPr/>
        </p:nvSpPr>
        <p:spPr>
          <a:xfrm>
            <a:off x="1676520" y="1523880"/>
            <a:ext cx="54864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>
                    <a:alpha val="49000"/>
                  </a:srgbClr>
                </a:solidFill>
                <a:latin typeface="Arial"/>
              </a:rPr>
              <a:t>X</a:t>
            </a:r>
            <a:endParaRPr b="0" lang="en-US" sz="1800" spc="1" strike="noStrike">
              <a:ln w="0">
                <a:noFill/>
              </a:ln>
              <a:solidFill>
                <a:srgbClr val="ff6600">
                  <a:alpha val="49000"/>
                </a:srgbClr>
              </a:solidFill>
              <a:latin typeface="Arial"/>
              <a:ea typeface="Arial"/>
            </a:endParaRPr>
          </a:p>
        </p:txBody>
      </p:sp>
      <p:grpSp>
        <p:nvGrpSpPr>
          <p:cNvPr id="104" name="Group 12"/>
          <p:cNvGrpSpPr/>
          <p:nvPr/>
        </p:nvGrpSpPr>
        <p:grpSpPr>
          <a:xfrm>
            <a:off x="762120" y="3276720"/>
            <a:ext cx="7238880" cy="1739520"/>
            <a:chOff x="762120" y="3276720"/>
            <a:chExt cx="7238880" cy="1739520"/>
          </a:xfrm>
        </p:grpSpPr>
        <p:sp>
          <p:nvSpPr>
            <p:cNvPr id="105" name="Text Box 7"/>
            <p:cNvSpPr/>
            <p:nvPr/>
          </p:nvSpPr>
          <p:spPr>
            <a:xfrm>
              <a:off x="1066680" y="3733920"/>
              <a:ext cx="678204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Decimal Degrees = XX.xxxxx</a:t>
              </a:r>
              <a:r>
                <a:rPr b="0" lang="en-US" sz="3200" spc="-1" strike="noStrike" baseline="30000">
                  <a:solidFill>
                    <a:srgbClr val="ffff00"/>
                  </a:solidFill>
                  <a:latin typeface="Arial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8"/>
            <p:cNvSpPr/>
            <p:nvPr/>
          </p:nvSpPr>
          <p:spPr>
            <a:xfrm>
              <a:off x="2666880" y="3276720"/>
              <a:ext cx="342900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ffff"/>
                  </a:solidFill>
                  <a:latin typeface="Arial"/>
                </a:rPr>
                <a:t>We use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1"/>
            <p:cNvSpPr/>
            <p:nvPr/>
          </p:nvSpPr>
          <p:spPr>
            <a:xfrm>
              <a:off x="762120" y="4495680"/>
              <a:ext cx="723888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86</a:t>
              </a:r>
              <a:r>
                <a:rPr b="0" lang="en-US" sz="2800" spc="-1" strike="noStrike" baseline="30000">
                  <a:solidFill>
                    <a:srgbClr val="ffffff"/>
                  </a:solidFill>
                  <a:latin typeface="Arial"/>
                </a:rPr>
                <a:t>o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 28’ 32”  </a:t>
              </a:r>
              <a:r>
                <a:rPr b="0" i="1" lang="en-US" sz="2800" spc="-1" strike="noStrike">
                  <a:solidFill>
                    <a:srgbClr val="ff0000"/>
                  </a:solidFill>
                  <a:latin typeface="Arial"/>
                </a:rPr>
                <a:t>is </a:t>
              </a:r>
              <a:r>
                <a:rPr b="0" i="1" lang="en-US" sz="2800" spc="-1" strike="noStrike" u="sng">
                  <a:solidFill>
                    <a:srgbClr val="ff0000"/>
                  </a:solidFill>
                  <a:uFillTx/>
                  <a:latin typeface="Arial"/>
                </a:rPr>
                <a:t>NOT</a:t>
              </a:r>
              <a:r>
                <a:rPr b="0" i="1" lang="en-US" sz="2800" spc="-1" strike="noStrike">
                  <a:solidFill>
                    <a:srgbClr val="ff0000"/>
                  </a:solidFill>
                  <a:latin typeface="Arial"/>
                </a:rPr>
                <a:t> EQUAL to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 86.2832</a:t>
              </a:r>
              <a:r>
                <a:rPr b="0" lang="en-US" sz="2800" spc="-1" strike="noStrike" baseline="30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Text Box 13"/>
          <p:cNvSpPr/>
          <p:nvPr/>
        </p:nvSpPr>
        <p:spPr>
          <a:xfrm>
            <a:off x="1066680" y="5334120"/>
            <a:ext cx="67057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Be sure your GPS is set for decimal degre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eed help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15242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ck out “Setting up your GPS” at www.amsti.org - go to “Teaching Material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r AMSTI- GLOBE specialis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914400" y="3429000"/>
            <a:ext cx="3276720" cy="132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Jerry Cob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rry@amsti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4724280" y="3429000"/>
            <a:ext cx="3276720" cy="86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ynn Vaugh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ynn@amsti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way to describe our location on the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lls how far north/south and east/w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are calle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oordin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1905120" y="609480"/>
            <a:ext cx="510516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titude/Longitu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5"/>
          <p:cNvSpPr/>
          <p:nvPr/>
        </p:nvSpPr>
        <p:spPr>
          <a:xfrm>
            <a:off x="4419720" y="4114800"/>
            <a:ext cx="0" cy="198108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6"/>
          <p:cNvSpPr/>
          <p:nvPr/>
        </p:nvSpPr>
        <p:spPr>
          <a:xfrm>
            <a:off x="3429000" y="5105520"/>
            <a:ext cx="198108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4267080" y="3733920"/>
            <a:ext cx="3049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5486400" y="4876920"/>
            <a:ext cx="3049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3048120" y="4876920"/>
            <a:ext cx="3808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4267080" y="6095880"/>
            <a:ext cx="3049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titude 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latitude"/>
          <p:cNvPicPr/>
          <p:nvPr/>
        </p:nvPicPr>
        <p:blipFill>
          <a:blip r:embed="rId1"/>
          <a:stretch/>
        </p:blipFill>
        <p:spPr>
          <a:xfrm>
            <a:off x="3048120" y="1295280"/>
            <a:ext cx="3197160" cy="3267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2" name="Text Box 6"/>
          <p:cNvSpPr/>
          <p:nvPr/>
        </p:nvSpPr>
        <p:spPr>
          <a:xfrm>
            <a:off x="1219320" y="4800600"/>
            <a:ext cx="68580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ines run east and west, but they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measu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grees north or south of th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qua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6781680" y="2743200"/>
            <a:ext cx="1981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quator – 0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8"/>
          <p:cNvSpPr/>
          <p:nvPr/>
        </p:nvSpPr>
        <p:spPr>
          <a:xfrm flipH="1">
            <a:off x="5790960" y="3048120"/>
            <a:ext cx="99036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ongitude 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longitude"/>
          <p:cNvPicPr/>
          <p:nvPr/>
        </p:nvPicPr>
        <p:blipFill>
          <a:blip r:embed="rId1"/>
          <a:stretch/>
        </p:blipFill>
        <p:spPr>
          <a:xfrm>
            <a:off x="2743200" y="1447920"/>
            <a:ext cx="3733920" cy="3287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7" name="Text Box 5"/>
          <p:cNvSpPr/>
          <p:nvPr/>
        </p:nvSpPr>
        <p:spPr>
          <a:xfrm>
            <a:off x="457200" y="5410080"/>
            <a:ext cx="83059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n north and south.  Where do all the lines mee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457200" y="1600200"/>
            <a:ext cx="198108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stead of measuring from the equator, longitude is measured from the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prime meridian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line running through Greenwich, Engl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6705720" y="2590920"/>
            <a:ext cx="2286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rime Meridian – 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9"/>
          <p:cNvSpPr/>
          <p:nvPr/>
        </p:nvSpPr>
        <p:spPr>
          <a:xfrm flipH="1" flipV="1">
            <a:off x="4419720" y="2666880"/>
            <a:ext cx="2286000" cy="152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combining latitude and longit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lat_long"/>
          <p:cNvPicPr/>
          <p:nvPr/>
        </p:nvPicPr>
        <p:blipFill>
          <a:blip r:embed="rId1"/>
          <a:stretch/>
        </p:blipFill>
        <p:spPr>
          <a:xfrm>
            <a:off x="1828800" y="1447920"/>
            <a:ext cx="5334120" cy="29718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1447920" y="4876920"/>
            <a:ext cx="6553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can pinpoint any location on Ear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measure latitude and longitude in degr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304920" y="5181480"/>
            <a:ext cx="861048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are 360 degrees in a circ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degree is 1/36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way around the ear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latitude2"/>
          <p:cNvPicPr/>
          <p:nvPr/>
        </p:nvPicPr>
        <p:blipFill>
          <a:blip r:embed="rId1"/>
          <a:stretch/>
        </p:blipFill>
        <p:spPr>
          <a:xfrm>
            <a:off x="2209680" y="1295280"/>
            <a:ext cx="487692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identify points on the Earth by specifying how many degrees North or South (of the equator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457200" y="4495680"/>
            <a:ext cx="784872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how many degrees East or West (of the prime meridian) the points are loc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latlong_detroit"/>
          <p:cNvPicPr/>
          <p:nvPr/>
        </p:nvPicPr>
        <p:blipFill>
          <a:blip r:embed="rId1"/>
          <a:stretch/>
        </p:blipFill>
        <p:spPr>
          <a:xfrm>
            <a:off x="2209680" y="1447920"/>
            <a:ext cx="472464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lat_long"/>
          <p:cNvPicPr/>
          <p:nvPr/>
        </p:nvPicPr>
        <p:blipFill>
          <a:blip r:embed="rId1"/>
          <a:stretch/>
        </p:blipFill>
        <p:spPr>
          <a:xfrm>
            <a:off x="1752480" y="1752480"/>
            <a:ext cx="5639040" cy="31417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1371600" y="457200"/>
            <a:ext cx="68580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other way to describe coordinates is to use a “+” or “-” instead of north, south, east, or w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228600" y="2057400"/>
            <a:ext cx="1371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rth is “+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152280" y="3886200"/>
            <a:ext cx="1371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th is “-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7620120" y="3886200"/>
            <a:ext cx="1371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st is “-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7543800" y="2057400"/>
            <a:ext cx="1371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st is “+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0"/>
          <p:cNvSpPr/>
          <p:nvPr/>
        </p:nvSpPr>
        <p:spPr>
          <a:xfrm flipV="1">
            <a:off x="1523880" y="2165040"/>
            <a:ext cx="1752840" cy="120600"/>
          </a:xfrm>
          <a:prstGeom prst="line">
            <a:avLst/>
          </a:prstGeom>
          <a:ln w="5724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1"/>
          <p:cNvSpPr/>
          <p:nvPr/>
        </p:nvSpPr>
        <p:spPr>
          <a:xfrm>
            <a:off x="1447920" y="4114800"/>
            <a:ext cx="1752480" cy="53352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2"/>
          <p:cNvSpPr/>
          <p:nvPr/>
        </p:nvSpPr>
        <p:spPr>
          <a:xfrm flipH="1">
            <a:off x="7346520" y="2438280"/>
            <a:ext cx="577800" cy="1079640"/>
          </a:xfrm>
          <a:prstGeom prst="line">
            <a:avLst/>
          </a:prstGeom>
          <a:ln w="5724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3"/>
          <p:cNvSpPr/>
          <p:nvPr/>
        </p:nvSpPr>
        <p:spPr>
          <a:xfrm flipH="1" flipV="1">
            <a:off x="4876920" y="3581280"/>
            <a:ext cx="2743200" cy="457200"/>
          </a:xfrm>
          <a:prstGeom prst="line">
            <a:avLst/>
          </a:prstGeom>
          <a:ln w="572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5"/>
          <p:cNvSpPr/>
          <p:nvPr/>
        </p:nvSpPr>
        <p:spPr>
          <a:xfrm>
            <a:off x="609480" y="5181480"/>
            <a:ext cx="77724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y computer programs, such as GIS software, use this meth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1371600" y="533520"/>
            <a:ext cx="670572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you are inputting data into a GIS program, you will need to use “+” or “-” 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Ala district map"/>
          <p:cNvPicPr/>
          <p:nvPr/>
        </p:nvPicPr>
        <p:blipFill>
          <a:blip r:embed="rId1"/>
          <a:srcRect l="31663" t="8004" r="29899" b="0"/>
          <a:stretch/>
        </p:blipFill>
        <p:spPr>
          <a:xfrm>
            <a:off x="1905120" y="1600200"/>
            <a:ext cx="2422440" cy="342900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7"/>
          <p:cNvSpPr/>
          <p:nvPr/>
        </p:nvSpPr>
        <p:spPr>
          <a:xfrm>
            <a:off x="3048120" y="182880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4648320" y="2362320"/>
            <a:ext cx="3504960" cy="12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untsville, Alabama is a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4.7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o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6.6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W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9"/>
          <p:cNvSpPr/>
          <p:nvPr/>
        </p:nvSpPr>
        <p:spPr>
          <a:xfrm flipH="1" flipV="1">
            <a:off x="3276720" y="1980720"/>
            <a:ext cx="1295280" cy="8384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1523880" y="5257800"/>
            <a:ext cx="63248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would you write this using “+” and “-”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3T20:53:15Z</dcterms:created>
  <dc:creator>Jerry W. Cobbs</dc:creator>
  <dc:description/>
  <dc:language>en-US</dc:language>
  <cp:lastModifiedBy>lfowler</cp:lastModifiedBy>
  <dcterms:modified xsi:type="dcterms:W3CDTF">2011-07-15T19:18:07Z</dcterms:modified>
  <cp:revision>9</cp:revision>
  <dc:subject/>
  <dc:title>Latitude/Longitude</dc:title>
</cp:coreProperties>
</file>